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FDE-7CB2-4566-9505-41C524E6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708-8E74-47A0-84E0-DB92C216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7E5-B11F-4399-A4BF-5002E860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437-476C-4805-B35E-EA29D274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D808-37EC-4652-BDE7-966533A2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25A-A7FF-4E4D-97FE-B119FFC1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1E0-1F54-498D-948A-8889315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3A73-6F95-4B97-87F2-2E393DF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BC87-2726-4415-BC54-0FE44723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D00E-FDE3-4DBD-BC18-01FD093C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4296-492B-4758-A91C-DC2AACB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319-1D3F-489B-9A98-2967A32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15F3-D7DA-4B37-AE74-C365E2E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9DC-828C-461D-9B8D-48AF4CF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52E-FD7D-404C-8C65-C58666C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265A-3211-4789-83A9-E8D8BBB1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77C-7841-4B4A-9DA4-4A9D9968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B4B-82BE-454A-A00A-C10DB24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84D-EF70-460F-B0A3-5401D7EF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E2AE-26C0-4399-9D9C-2DF413BE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2D6-9BBA-4546-8431-BBED9AC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9A2-36E8-43B7-B343-EC71622F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981-D280-4EF0-AA35-C6B23CE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E40-FC0E-4ABB-A596-70708CB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CBD-25FB-40DF-B4B1-1E6476546E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EAD-A7B7-4B25-B936-BBE4EC62DC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March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re s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 Activ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hat it says on the card your group g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 the questions on the worksheet.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18:49Z</dcterms:created>
  <dc:creator>VMS</dc:creator>
  <dc:description/>
  <dc:language>en-US</dc:language>
  <cp:lastModifiedBy>VMS</cp:lastModifiedBy>
  <dcterms:modified xsi:type="dcterms:W3CDTF">2009-08-26T13:30:01Z</dcterms:modified>
  <cp:revision>2</cp:revision>
  <dc:subject/>
  <dc:title>Extraordinary English</dc:title>
</cp:coreProperties>
</file>